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AC2-D13E-410A-8582-52269099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9FBE-E549-46DE-ABB4-A9BE6D2E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30DF-0A2C-4F9C-88A0-7F8DF33F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232D-9687-4244-B12C-DF0C0CFB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9E62-7F14-4186-828F-8BA0B599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B976-5514-407E-8225-D0505C65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7C5C-EB51-47F8-8758-FE6148FE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2F17-EA10-4E1D-9C87-B35361D2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2F11-352E-4C7E-BAC4-8EE0947A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43E4-C02A-4685-A280-674BC074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6270-002C-418F-9141-961796BD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EE86-39FE-4D28-94A5-868B2409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DEF6-94A6-4479-8BED-9092C2D4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259B-98A4-4B28-A437-E71618D1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5423-4BF7-4920-8AD9-CA04E68B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FAAF-7DEC-4AF4-B386-912FC634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921C-14C7-49FB-BB73-346135C3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B244-8082-4A3B-9A78-7DD926E2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4CA-2A2D-4D16-8040-5EBB0137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5B56-E156-4F4A-976C-A8DACA1F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66EE-C6FB-461B-B224-1696F78E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5248-2F16-42D3-AF2B-2D1A6020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9EE3-9A2F-4B4C-80B0-D318192B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31E-75B6-49A3-9009-EE7DC2CF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C738-928C-4636-A67C-56412E65C803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42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43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8300f2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8300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8300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51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2F38-3435-45A3-8810-6EFC1037EB39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89080" y="692280"/>
            <a:ext cx="6070680" cy="290664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04920" y="588960"/>
            <a:ext cx="6616800" cy="56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lance She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b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LIA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84240" y="946080"/>
            <a:ext cx="59025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435560" y="963720"/>
            <a:ext cx="1440" cy="2260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5080" y="3241800"/>
            <a:ext cx="8742240" cy="277164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Credi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8120" y="419580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8560" y="426420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63840" y="2017800"/>
            <a:ext cx="968400" cy="1376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64120" y="4006800"/>
            <a:ext cx="464328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abilities &amp;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Cr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cr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27600" y="4381560"/>
            <a:ext cx="3451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10240" y="4398840"/>
            <a:ext cx="0" cy="106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38800" y="2952720"/>
            <a:ext cx="271440" cy="851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Gorian Surlan; Source: Barker.B. Basic Bookkeep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810A-D6FC-46B6-92D1-35A381F773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458280"/>
            <a:ext cx="7893360" cy="9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ffff"/>
                </a:solidFill>
                <a:latin typeface="Times New Roman"/>
              </a:rPr>
              <a:t>June 10</a:t>
            </a:r>
            <a:r>
              <a:rPr b="0" i="1" lang="en-CA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CA" sz="2800" spc="-1" strike="noStrike">
                <a:solidFill>
                  <a:srgbClr val="ffffff"/>
                </a:solidFill>
                <a:latin typeface="Times New Roman"/>
              </a:rPr>
              <a:t>Bought merchandise (venatian blinds) </a:t>
            </a:r>
            <a:r>
              <a:rPr b="0" i="1" lang="en-CA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CA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CA" sz="2800" spc="-1" strike="noStrike">
                <a:solidFill>
                  <a:srgbClr val="ffffff"/>
                </a:solidFill>
                <a:latin typeface="Times New Roman"/>
              </a:rPr>
              <a:t>for an upcoming sale; paid $8,000 cash.</a:t>
            </a:r>
            <a:endParaRPr b="0" i="1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79320" y="1992240"/>
            <a:ext cx="7785360" cy="3767760"/>
          </a:xfrm>
          <a:prstGeom prst="rect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             Rule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The expense account             Expense increase on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Debi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Purchases  is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             the debit side.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Purchases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increas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The assest account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Assets decrease on the 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Credi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Bank  is decreased.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credit side.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Bank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160" y="2681280"/>
            <a:ext cx="734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12880" y="4125960"/>
            <a:ext cx="7194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52560" y="3463920"/>
            <a:ext cx="459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08800" y="3479760"/>
            <a:ext cx="510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22480" y="4687920"/>
            <a:ext cx="306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50080" y="475452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Gorian Surlan; Source: Barker.B. Basic Bookkeep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0010-D0DB-4F61-AF20-976816B9D7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9560" y="476280"/>
            <a:ext cx="8018640" cy="13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une 18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 payment of $5,000 was made to Strand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ffice Equipment Co. in full payment o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e balance owing to it.</a:t>
            </a:r>
            <a:endParaRPr b="0" i="1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29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79320" y="1992240"/>
            <a:ext cx="7785360" cy="4504320"/>
          </a:xfrm>
          <a:prstGeom prst="rect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             Rule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The liability account             Liabilities decrease on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Debi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Accounts Payable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/                  the debit side.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Strands Office Equip.Co.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Payable/Strands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is decreased.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Office Equip.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The assest account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Assets decrease on the 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Credi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Bank  is decreased.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credit side.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Bank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92400" y="342900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43720" y="3497400"/>
            <a:ext cx="595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22480" y="5095800"/>
            <a:ext cx="357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84720" y="5214960"/>
            <a:ext cx="460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80920" y="4551480"/>
            <a:ext cx="727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7800" y="2646360"/>
            <a:ext cx="751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Gorian Surlan; Source: Barker.B. Basic Bookkeep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629E-36B0-4D30-901D-7E073615A4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0866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une 20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ash sales of merchandise for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onth, $5,500.</a:t>
            </a:r>
            <a:endParaRPr b="0" i="1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79320" y="1974600"/>
            <a:ext cx="7785360" cy="3831120"/>
          </a:xfrm>
          <a:prstGeom prst="rect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Rul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asset account                  Assets increase 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bit: Ba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nk is increased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the debit si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revenue accou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Revenues increase on the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redi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les  is increased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credit side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a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7040" y="2595600"/>
            <a:ext cx="748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0160" y="4057560"/>
            <a:ext cx="743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05200" y="3276720"/>
            <a:ext cx="407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32440" y="3343320"/>
            <a:ext cx="527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75120" y="4754520"/>
            <a:ext cx="323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56440" y="4822920"/>
            <a:ext cx="390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Gorian Surlan; Source: Barker.B. Basic Bookkeep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8745-5207-4A6A-80E7-44AC8B4A98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0866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une 30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ssued a cheque to pay the Jun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lephone bill, $145.</a:t>
            </a:r>
            <a:endParaRPr b="0" i="1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9320" y="1974600"/>
            <a:ext cx="7785360" cy="3399480"/>
          </a:xfrm>
          <a:prstGeom prst="rect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Rul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expense account             Expenses  increase 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bit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lephone Expens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the debit side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lepho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 increased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xpens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asset accou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ets decrease on the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redi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nk  is decreased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 side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a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7040" y="2646360"/>
            <a:ext cx="7362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9400" y="4176720"/>
            <a:ext cx="721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1640" y="3395520"/>
            <a:ext cx="44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00840" y="3462480"/>
            <a:ext cx="476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7560" y="4856040"/>
            <a:ext cx="408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86520" y="4941720"/>
            <a:ext cx="577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Gorian Surlan; Source: Barker.B. Basic Bookkeep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5A8F-01A8-4094-B3EF-E18A87CF9C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3444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ven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b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ecreas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ncr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76640" y="947880"/>
            <a:ext cx="4354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70480" y="963720"/>
            <a:ext cx="0" cy="1461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12800" y="3343320"/>
            <a:ext cx="591840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b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ncreas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ecr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13080" y="3954600"/>
            <a:ext cx="418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37000" y="4008600"/>
            <a:ext cx="0" cy="1734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Gorian Surlan; Source: Barker.B. Basic Bookkeep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3734-FFDB-46D7-9886-388FA06258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7760" y="187200"/>
            <a:ext cx="7086600" cy="99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Balance Sheet - Basic Rule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0320" y="1168200"/>
            <a:ext cx="8172360" cy="51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ccount increases on the side of orig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ccount decreases on the side opposite of the side of orig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et accounts increase on the debit side and decrease on the credit 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ability and Capital (or Equity) accounts increase on the credit side and decrease on the debit 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enue accounts increase on the credit side and decrease on the debit 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nse accounts increase on the debit side and decrease on the credit 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Gorian Surlan; Source: Barker.B. Basic Bookkeep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5E67-C592-461A-83D6-E382A060CB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7320" y="3009960"/>
            <a:ext cx="8864280" cy="3184560"/>
          </a:xfrm>
          <a:prstGeom prst="rect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Analyzing a Transaction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3960" y="1981080"/>
            <a:ext cx="8877240" cy="440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June 1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Tom Cartier invests $ 80,000 cash 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in his new busin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      Rule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The asset account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Assets increase on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Debit:Ba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Bank is increased.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the debit side.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The capital account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Owner’s equity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Credit:Capi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is increased.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increases on the credit side.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T.Cart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4640" y="3768840"/>
            <a:ext cx="829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5840" y="5095800"/>
            <a:ext cx="8283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4584600"/>
            <a:ext cx="357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56160" y="4551480"/>
            <a:ext cx="577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25520" y="5742000"/>
            <a:ext cx="543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92600" y="5622840"/>
            <a:ext cx="663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Gorian Surlan; Source: Barker.B. Basic Bookkeep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2279-2D9D-446F-AEBD-A615C707D0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17360" y="44100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Analyzing a Transaction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1160" y="1981080"/>
            <a:ext cx="8690040" cy="440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June 1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Tom Cartier invests $ 80,000 cash 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in his new busin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Here is the effect on the accounting equ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Liabilities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+  Capi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$80,000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     0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+  $8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4640" y="3360600"/>
            <a:ext cx="8129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Gorian Surlan; Source: Barker.B. Basic Bookkeep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39A-FDED-4420-8A5C-693B98F316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3585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Analyzing a Transaction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" y="3384720"/>
            <a:ext cx="8370720" cy="2726280"/>
          </a:xfrm>
          <a:prstGeom prst="rect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Rul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asset accou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Assets increase 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bit: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d is increased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the debit side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apital accou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ets decrease on th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redit: Ban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Bank is increased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redit side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4560" y="1830240"/>
            <a:ext cx="75693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June 3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and was bought as a futu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uilding site. A cheque w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ssued for $ 25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3040" y="5297400"/>
            <a:ext cx="799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6680" y="4057560"/>
            <a:ext cx="799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83000" y="4670280"/>
            <a:ext cx="372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61000" y="4619520"/>
            <a:ext cx="407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85960" y="5775480"/>
            <a:ext cx="339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46760" y="5724360"/>
            <a:ext cx="324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Gorian Surlan; Source: Barker.B. Basic Bookkeep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27AD-8DCB-4051-B248-17DA74C316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01640" y="676440"/>
            <a:ext cx="7772400" cy="582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June 3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and was bought as a futu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uilding site. A cheque w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ssued for $ 25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e is the effect on the accounting equ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abiliti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 Capi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L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$8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 $8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-25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$25,000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$55,000 + 25,000   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 $8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91160" y="4822920"/>
            <a:ext cx="1054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9400" y="5894280"/>
            <a:ext cx="134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79680" y="5910120"/>
            <a:ext cx="1225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57680" y="5894280"/>
            <a:ext cx="1122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47040" y="5894280"/>
            <a:ext cx="163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2880" y="4873680"/>
            <a:ext cx="1616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Gorian Surlan; Source: Barker.B. Basic Bookkeep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893F-9283-4CC6-83D3-93CE2630AE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00120" y="587520"/>
            <a:ext cx="7772400" cy="13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une 7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nstructed a small building, $100,000.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aid $30,000 down and arranged for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$70,000, 15-year mortg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38400" y="2341440"/>
            <a:ext cx="64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1720" y="2041560"/>
            <a:ext cx="8371080" cy="4199400"/>
          </a:xfrm>
          <a:prstGeom prst="rect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Rul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asset accou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Assets increase 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bit:Buil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ilding is increased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the debit side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asset accou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ets decrease on th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redit: Ban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Bank is decreased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redit side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liability accou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abilities increase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redit: Mortg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rtgage Payabl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the credit side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yabl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 increas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4400" y="2749680"/>
            <a:ext cx="7448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4400" y="3803760"/>
            <a:ext cx="7483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1360" y="4960800"/>
            <a:ext cx="744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08160" y="3395520"/>
            <a:ext cx="32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395520"/>
            <a:ext cx="509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20960" y="4414680"/>
            <a:ext cx="306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00840" y="4363920"/>
            <a:ext cx="390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52640" y="5554800"/>
            <a:ext cx="324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1760" y="555480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Gorian Surlan; Source: Barker.B. Basic Bookkeep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4E7C-AAAA-4F81-AE45-71CB0B88D8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7120" y="476280"/>
            <a:ext cx="7686720" cy="13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une 8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ought equipment for the store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$5,000, from Strands Offic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quipment Co. on terms of net 10 days.</a:t>
            </a:r>
            <a:endParaRPr b="0" i="1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89160" y="2612880"/>
            <a:ext cx="687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6040" y="2297160"/>
            <a:ext cx="8371080" cy="3894480"/>
          </a:xfrm>
          <a:prstGeom prst="rect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Rul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asset accou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Assets increase 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bi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fice Equipment i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the debit side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ffic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qui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creas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liability accou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abilities increase on th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redi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ounts Payable/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redit side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counts Payable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ands Office Equipme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rands Off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. is decrease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quipment Co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7120" y="3021120"/>
            <a:ext cx="777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7120" y="4500720"/>
            <a:ext cx="785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08800" y="3684600"/>
            <a:ext cx="409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17640" y="3649680"/>
            <a:ext cx="341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35280" y="5146560"/>
            <a:ext cx="357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35480" y="5214960"/>
            <a:ext cx="560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Gorian Surlan; Source: Barker.B. Basic Bookkeep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69C2-D9B0-4334-B596-D2E9BEDE7D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8T16:59:42Z</dcterms:created>
  <dc:creator>Gorian Surlan</dc:creator>
  <dc:description/>
  <dc:language>en-US</dc:language>
  <cp:lastModifiedBy>Gorian Surlan</cp:lastModifiedBy>
  <dcterms:modified xsi:type="dcterms:W3CDTF">2003-06-04T20:23:34Z</dcterms:modified>
  <cp:revision>14</cp:revision>
  <dc:subject/>
  <dc:title>No Slide Title</dc:title>
</cp:coreProperties>
</file>